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994-3F11-45A5-BD6D-617698BD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83F-A2A3-40E7-80FF-D7197D65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C0F-F216-4978-A8A1-40B6A092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0B8-EC22-40B8-9DDB-39AC23FF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D7C-531E-4B13-ACC8-4EDD5CE5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FEE-8D25-4440-AAA5-E51F5026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608-2EE8-4CF7-AF74-95FD6A3E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AF2-0847-4117-A63F-1B4EA4E5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277-6762-45D9-BA72-605511F5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814-B539-42A2-B8D1-1CAF4FE2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168-1289-43CD-8F4E-41EB3035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94A-9CC1-4CBE-B294-778440D4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5234-1112-4346-9913-09F888128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do writers need to include in their beginning, middle, and en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o writers have to take a position on an issue to persuade other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o writers need to use facts to support an issue instead of opin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I use a self assessment to make me a better reader and wri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193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use the research process to communicate what we have learned about a su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best assess whether we have met the standard in our writing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details enhance the characters and the actions of a stor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dialogue help to enhance the characters and their actions in narrative storie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transition words help to smoothly move a story al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the use of appropriate capitalization help to make our stories more understandable and easier to read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the use of correct punctuation help to add meaning and clarity to our narrative stories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the use of a variety of pronouns help to keep our stories engag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use the research process to communicate what we have learned about a subject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best assess whether we have met the standard in our writ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93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3:32:46Z</dcterms:created>
  <dc:creator>Abby Owens</dc:creator>
  <dc:description/>
  <dc:language>en-US</dc:language>
  <cp:lastModifiedBy>Abby Owens</cp:lastModifiedBy>
  <dcterms:modified xsi:type="dcterms:W3CDTF">2010-05-28T00:23:37Z</dcterms:modified>
  <cp:revision>13</cp:revision>
  <dc:subject/>
  <dc:title>PowerPoint Presentation</dc:title>
</cp:coreProperties>
</file>